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6826-EF40-4224-8E5B-410DDC999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2204-D82B-4197-8742-4A6FF4170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217-4064-4D8F-8202-F882AAD5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762-F470-4CC2-A798-45283112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EAF-C2B7-413F-82B6-FEB707E0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945-D3DB-473A-9FFD-24D89909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9A0-391B-4997-BEEF-B8EC782D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6D4-B052-4B2A-92E4-5BA3CCF0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6D5-9193-4830-A6E7-33BBC674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5DB-2209-4164-8821-3CD4860A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FFE-8DBD-44B6-99BF-E86C75F2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C0F-A5CF-4B46-ACB7-B7B6C0A3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194-A18D-4DAC-BD65-585B1376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179-EB04-4C6E-9A4A-68DD03E8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5CEE-75B4-47E2-8B90-5C9D831E3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, buenos dias? Mi nombre es Kaelin. Yo vivo en el New York City. Yo tengo catorce años.Yo tengo no hermanos. Yo soy bi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6:21Z</dcterms:modified>
  <cp:revision>101</cp:revision>
  <dc:subject/>
  <dc:title>Profile</dc:title>
</cp:coreProperties>
</file>